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CD9-6752-4041-93DE-07381245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5DD-2F88-43F0-ACA5-0444ED01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F4F-2656-436C-9DE6-0D6EF013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CEF-7E1B-48C8-A790-5E0BFF29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1520-3E25-46CD-B2C7-F223AD78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62CE-E206-427D-8E75-8C23C100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E33D-DB3A-44AD-BC22-D0FACC2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6A3D-08D3-4DFB-B60F-E54A0598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6E3B-AF32-4BEB-B38E-F14AE4EC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E7A9-8DD5-4423-B018-6FBB19D8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6BA5-2297-4FCA-B140-72EE018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FB1-3041-43C0-965C-26B5DAEF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F993-8D04-4D16-A768-D3D4C21A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081B-5B2E-48E4-AABE-CF61BB0D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5D45-5536-4C99-82D3-C2792B11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038F-F4C8-4F47-ADAD-267AD0C0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3EA8-85BB-4619-8D62-4DE636F0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200-3743-492B-806D-CBC66821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F92-4DA7-4FF8-8CC3-01D13B86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57D-9D14-4DB7-A525-6AA8F73B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B24-837B-479D-B95C-2B35BE54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CAC-EC14-438E-99E7-18BFB8BA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A07-8514-4DA3-AAC0-7503E33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B79-12E0-487B-9817-6001210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4CC-E0BC-4668-974B-5D2FD0D11F6B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26F4-E675-497F-AA91-7641D14E584E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Eastern Campaig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are not using the army, I should like to borrow it for a short while.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resident Linco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George B. McClella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 Point Graduate (18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recruiter &amp; tr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name:  Little Mac or Young Napo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l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verestim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ength of opposing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Peninsula Campaign (1862)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Take Rich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Clellan moves more than 100,000 men vi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outflank the Confede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ty:  McClellan slow to mov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Yorktown &amp; Seven Pines (1862)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Clellan chose to lay siege to Yorktown, causes disagreement with Linco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 General Joseph E. Johnston decides to attack McClell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vent him from reaching Richm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ston wounded…later replaced by Robert E.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ordered a halt to fighting.  (Why is this a smart move by Lee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even Days</a:t>
            </a:r>
            <a:r>
              <a:rPr b="0" i="1" lang="ja-JP" sz="4000" spc="-1" strike="noStrike">
                <a:solidFill>
                  <a:srgbClr val="482400"/>
                </a:solidFill>
                <a:latin typeface="Times New Roman"/>
              </a:rPr>
              <a:t>’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Campaign (June 25</a:t>
            </a:r>
            <a:r>
              <a:rPr b="0" i="1" lang="en-US" sz="4000" spc="-1" strike="noStrike" baseline="30000">
                <a:solidFill>
                  <a:srgbClr val="482400"/>
                </a:solidFill>
                <a:latin typeface="Times New Roman"/>
              </a:rPr>
              <a:t>th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to July 1</a:t>
            </a:r>
            <a:r>
              <a:rPr b="0" i="1" lang="en-US" sz="4000" spc="-1" strike="noStrike" baseline="30000">
                <a:solidFill>
                  <a:srgbClr val="482400"/>
                </a:solidFill>
                <a:latin typeface="Times New Roman"/>
              </a:rPr>
              <a:t>st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1862)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 sent Jeb Stuart to scout McClella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rmy and posi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ares Little M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 forces McClellan to 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coln removes McClellan as top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regains momentum in the Eastern T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8:57Z</dcterms:created>
  <dc:creator>Robert G. Finkbeiner</dc:creator>
  <dc:description/>
  <dc:language>en-US</dc:language>
  <cp:lastModifiedBy>nate</cp:lastModifiedBy>
  <dcterms:modified xsi:type="dcterms:W3CDTF">2014-01-10T14:22:11Z</dcterms:modified>
  <cp:revision>32</cp:revision>
  <dc:subject/>
  <dc:title>Eastern Campaigns</dc:title>
</cp:coreProperties>
</file>